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F160-70C2-4148-A2BC-28E2D33C63A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AD0A-62F5-46C4-B4D9-D2A56D8D486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단어카드A4반"/>
          <p:cNvPicPr/>
          <p:nvPr/>
        </p:nvPicPr>
        <p:blipFill>
          <a:blip r:embed="rId2"/>
          <a:stretch/>
        </p:blipFill>
        <p:spPr>
          <a:xfrm>
            <a:off x="-316080" y="0"/>
            <a:ext cx="7562880" cy="91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家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这是我家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집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两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有两个妹妹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둘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iǎ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多大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얼마나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uō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了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弟弟八岁了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되었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e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二十四岁了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살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나이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u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年级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几年级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학년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niánjí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小学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小学六年级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초등학교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iǎoxu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初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初中一年级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6"/>
          <p:cNvSpPr/>
          <p:nvPr/>
        </p:nvSpPr>
        <p:spPr>
          <a:xfrm rot="10800000">
            <a:off x="403200" y="6307200"/>
            <a:ext cx="626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8000" spc="-1" strike="noStrike">
                <a:solidFill>
                  <a:srgbClr val="000000"/>
                </a:solidFill>
                <a:latin typeface="굴림"/>
              </a:rPr>
              <a:t>중학교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chūzhō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高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高中二年级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고등학교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gāozhō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大学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大学四年级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대학교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àxu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年纪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多大年纪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나이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연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niánj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有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有一个弟弟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있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ǒ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几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家有几口人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몇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ǐ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口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家有四口人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6"/>
          <p:cNvSpPr/>
          <p:nvPr/>
        </p:nvSpPr>
        <p:spPr>
          <a:xfrm rot="10800000">
            <a:off x="403200" y="6532560"/>
            <a:ext cx="626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식구를 세는 단위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kǒ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哥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没有哥哥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오빠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gēge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没有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他没有弟弟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없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éiyǒ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个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有几个弟弟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명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. 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개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gè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姐姐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她是我姐姐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누나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언니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ějie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妹妹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他有个妹妹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여동생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èime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0:55:21Z</dcterms:created>
  <dc:creator>Administrator</dc:creator>
  <dc:description/>
  <dc:language>en-US</dc:language>
  <cp:lastModifiedBy>Digital NEX</cp:lastModifiedBy>
  <dcterms:modified xsi:type="dcterms:W3CDTF">2012-05-17T02:09:34Z</dcterms:modified>
  <cp:revision>104</cp:revision>
  <dc:subject/>
  <dc:title>슬라이드 1</dc:title>
</cp:coreProperties>
</file>